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62A-83D0-442F-8F6B-21BBFDE2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28F-491C-41C6-B13A-302801F5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419-1480-48C6-B784-091AA169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8D9-2DE4-453F-B8BA-DDDD8442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1F5-C634-49A9-85C7-86B5063B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7EC-8E0C-4A79-8C16-83F4FB5E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8D5-94D4-49C4-B8C1-0F700F84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5AC-18F8-4D57-A6CB-7BC75F9D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172-F97B-4EAB-8945-EF75E068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FF0-106A-4B94-9B45-9F467C27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921-7683-4C8E-AD2D-86D7B88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51B-D76F-4801-BD2D-AAA077D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E9AA-B3A3-4CB4-BADE-D0847D2A9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m/imgres?imgurl=http://www.bothbrainsandbeauty.com/wp-content/uploads/2009/12/sulfhydryl-functional-group.jpg&amp;imgrefurl=http://www.bothbrainsandbeauty.com/academic-discussions/chemistry-academic-discussions/functional-groups-429&amp;usg=__omgLD7qH9T-Txe8Hu8GhEBtUjbQ=&amp;h=586&amp;w=618&amp;sz=6&amp;hl=en&amp;start=8&amp;zoom=1&amp;um=1&amp;itbs=1&amp;tbnid=JCxT6_SFvWs_KM:&amp;tbnh=129&amp;tbnw=136&amp;prev=/images%3Fq%3Dsulfhydryl%2Bgroup%26um%3D1%26hl%3Den%26safe%3Dactive%26sa%3DX%26rls%3Dcom.microsoft:*%26tbs%3Disch:1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3962160"/>
            <a:ext cx="55627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Sam V., Fernanda R., Ash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1219320"/>
            <a:ext cx="754380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Functional Group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426744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       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200400"/>
            <a:ext cx="4267440" cy="3276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xy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        P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all proteins M=most proteins L=lip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2206800" cy="1257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990720"/>
            <a:ext cx="4191120" cy="4656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dehydes (if at end of molec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tone (if in midd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drophilic                                       P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17316" t="40705" r="18872" b="0"/>
          <a:stretch/>
        </p:blipFill>
        <p:spPr>
          <a:xfrm>
            <a:off x="1219320" y="4191120"/>
            <a:ext cx="1981080" cy="12319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876920" y="2514600"/>
            <a:ext cx="1855800" cy="1828800"/>
            <a:chOff x="4876920" y="2514600"/>
            <a:chExt cx="1855800" cy="182880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75123" t="10123" r="0" b="59499"/>
            <a:stretch/>
          </p:blipFill>
          <p:spPr>
            <a:xfrm>
              <a:off x="4876920" y="2514600"/>
              <a:ext cx="1855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486400" y="2895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705720" y="2057400"/>
            <a:ext cx="1855800" cy="1752480"/>
            <a:chOff x="6705720" y="2057400"/>
            <a:chExt cx="1855800" cy="1752480"/>
          </a:xfrm>
        </p:grpSpPr>
        <p:pic>
          <p:nvPicPr>
            <p:cNvPr id="55" name="" descr=""/>
            <p:cNvPicPr/>
            <p:nvPr/>
          </p:nvPicPr>
          <p:blipFill>
            <a:blip r:embed="rId4"/>
            <a:srcRect l="75123" t="48104" r="0" b="22783"/>
            <a:stretch/>
          </p:blipFill>
          <p:spPr>
            <a:xfrm>
              <a:off x="6705720" y="2057400"/>
              <a:ext cx="1855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31520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9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76560" y="533160"/>
            <a:ext cx="4267080" cy="289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y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33520"/>
            <a:ext cx="42670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phosph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L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3505320"/>
            <a:ext cx="4114800" cy="308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5178" t="18502" r="25178" b="24807"/>
          <a:stretch/>
        </p:blipFill>
        <p:spPr>
          <a:xfrm>
            <a:off x="2209680" y="1447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1219320"/>
            <a:ext cx="1295640" cy="1228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172200" y="4267080"/>
            <a:ext cx="1238400" cy="1419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5720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all proteins M=most proteins L=lip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watch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lol-cats.jpg image by Ashton_The_Emo_Cutie_Cupcake"/>
          <p:cNvPicPr/>
          <p:nvPr/>
        </p:nvPicPr>
        <p:blipFill>
          <a:blip r:embed="rId2"/>
          <a:stretch/>
        </p:blipFill>
        <p:spPr>
          <a:xfrm>
            <a:off x="460692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20574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lephant"/>
              </a:rPr>
              <a:t>THE END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3:52:33Z</dcterms:created>
  <dc:creator>xpstudent</dc:creator>
  <dc:description/>
  <dc:language>en-US</dc:language>
  <cp:lastModifiedBy>xpstudent</cp:lastModifiedBy>
  <dcterms:modified xsi:type="dcterms:W3CDTF">2010-09-23T14:35:31Z</dcterms:modified>
  <cp:revision>6</cp:revision>
  <dc:subject/>
  <dc:title>Functional Groups</dc:title>
</cp:coreProperties>
</file>